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CBAF6F-6401-4AF7-B935-ED198097CB51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Въз основа на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адени препоръки на одитиращи орган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измененията в нормативната уредба и установени проблеми от УО на ОПАК в процеса на договаряне и изпълнение са предприети следните 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7.2012 г. 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 Наръчникът за изпълнение на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приложенията към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8.2012 г. УО на ОПАК изготви и изпрати на Европейската комисия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 за втор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по План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пълнението на ОПАК съгласно указанията на ЕК. На 30.10.2012 г. към ЕК беше изпрат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за трет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2012 г. по Плана за изпълнение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18.10.2012 г. беш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о и допълнено Ръководството за разработване и изпълнение на проекти по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еше качено на интернет страницата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работен и одобр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„План за обучение в чужбина на дирекция „Оперативна програма „Административен капацитет” за 2012 г.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яха изработени и изпратени в Дирекция „Човешки ресурси и административно обслужване”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личните планове за обучен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всички служители на дирек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2 вътрешни обучения на дирекция ОПАК в България на 40 служители на дирекцията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организирани по проект К10-40-7-6 по следните теми: ИСУН, „Презентационни умения”, „Изменения и допълнения в ЗОП в сила от 26.02.2012 г.”, „Развитие на ефективни презентационни умения”, част ІІ и „Практическо приложение на процедурите, заложени в Наръчника за изпълнение на Оперативна програма „Административен капацитет” (Версия 1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7 обучения на общо 27 служители на дирекцията, в международни обучителни институци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– „Европейския институт по публична администрация” в гр. Маастрихт, Холандия, в гр. Дубровник, Хърватска и в гр. Барселона, Испания, както и в „Европейската академия за данъци, икономика и право”, в гр.Берлин, Гер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201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С оглед ускорено договаряне на Програмата по-големият брой процедури от ИГРП за 2012 г. бяха заложени за стартиране през първите три месеца на годината, а именно 3 бр. процедури за м. януари, 1 бр. процедура за м. февруари и 3 бр. процедури за м. март и 2 бр. процедури за м. септември на обща стойност 43 млн. л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В рамките на отчетния период бяха предприети действия с цел актуализация на ИГРП и включването на нови процедури – понастоящем ИГРП на ОПАК за 2012 г. включва 17 бр. процедури за предоставяне на безвъзмездна финансова помощ в размер на 96,15 млн. лв. От тях 77,15 млн. лв. (12 бр. процедури) са насочени към централната, областната и общинската администрация, а 19 млн. лв. (5 бр. процедури) – за съдебната система. Фокусът се насочва към изпълнение на индикаторите по Приоритетна ос ІІ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4B1-C2A2-455A-B264-11D6A884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E11-E43D-4BAC-9734-989933EC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198-AD02-4875-A169-65EB5C3B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B12-AC96-42FF-9BDA-12EECBF2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194-159F-4384-8FB7-F6E6FC25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811-5728-406B-AE2A-5D86FD51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8B2-4B05-44C4-9327-B70A0C55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F72-D3F0-4642-B48F-1C90C15A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090-AB10-4C4D-8908-B7032F7E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CF5-DD7A-4802-8FE6-CA3010A5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E70-5BB2-4B39-A4BF-F8D4EEC1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007-A006-4A1F-91F1-FD6CA79A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18A5-7B4F-46BF-8329-5C66B92252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116-A25F-4827-8E5F-ABF4B0134E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mailto:info@opac.government.bg" TargetMode="External"/><Relationship Id="rId4" Type="http://schemas.openxmlformats.org/officeDocument/2006/relationships/hyperlink" Target="http://www.opac.government.bg/" TargetMode="External"/><Relationship Id="rId5" Type="http://schemas.openxmlformats.org/officeDocument/2006/relationships/hyperlink" Target="http://www.minfin.b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strategy.bg/" TargetMode="External"/><Relationship Id="rId4" Type="http://schemas.openxmlformats.org/officeDocument/2006/relationships/hyperlink" Target="http://www.strategy.bg/" TargetMode="External"/><Relationship Id="rId5" Type="http://schemas.openxmlformats.org/officeDocument/2006/relationships/hyperlink" Target="http://www.strategy.bg/" TargetMode="External"/><Relationship Id="rId6" Type="http://schemas.openxmlformats.org/officeDocument/2006/relationships/hyperlink" Target="http://www.strategy.bg/" TargetMode="External"/><Relationship Id="rId7" Type="http://schemas.openxmlformats.org/officeDocument/2006/relationships/hyperlink" Target="http://www.strategy.bg/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6465-1C5C-49AF-BA1B-9FD0F8B26A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-добра организация и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 е Наръчникът за изпълнение на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о е Ръководството за разработване и изпълнение на проекти по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рганизирани са обучения на одобрените бенефициенти за управление на проек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 база на изготвен План за изпълнението на ОПАК, УО изпраща тримесечни доклади за изпълнението на плана до Европейската Комис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Ускоряване на оценителния процес и процеса на сключване на догов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59568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19640" y="3357720"/>
            <a:ext cx="572436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силване на темповете по верификация и съкращаване на сроковете по верификация по отношение на договорите в изпълнение чрез изготвяне на ежеседмични графици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собено внимание се обръща на проектите с конкретни бенефициенти ИПА, МТИТС, АМС и НСОРБ, тъй като в тези бенефициенти е съсредоточен значителен финансов ресурс и те изпълняват важни за програмата проект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C99F-4960-4A39-8034-8B3DD8FB51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69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пацитет на Управляващия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18 бр. обучения на общо 61 бр. служители на дирекцията, в международни обучителни институции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 и 2 бр. обучения за 2 бр. служители в български обучителни институ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5 бр. изнесени обучения на дирекция ОПАК в България на 44 бр. служители на дирек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Към края на отчетния период в дирекция ОПАК, са заети 43 бр. от всички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44 щатни брой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SC04832"/>
          <p:cNvPicPr/>
          <p:nvPr/>
        </p:nvPicPr>
        <p:blipFill>
          <a:blip r:embed="rId2"/>
          <a:srcRect l="4045" t="20936" r="595" b="1745"/>
          <a:stretch/>
        </p:blipFill>
        <p:spPr>
          <a:xfrm>
            <a:off x="1677960" y="3201840"/>
            <a:ext cx="5773680" cy="312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EEFB-BC6A-4AC1-8819-F2F28A0CAA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0" name="Picture 7" descr="info4"/>
          <p:cNvPicPr/>
          <p:nvPr/>
        </p:nvPicPr>
        <p:blipFill>
          <a:blip r:embed="rId2"/>
          <a:srcRect l="0" t="23625" r="0" b="0"/>
          <a:stretch/>
        </p:blipFill>
        <p:spPr>
          <a:xfrm>
            <a:off x="0" y="3668760"/>
            <a:ext cx="5076720" cy="220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62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формация и публичност през 20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39 бр. информационни дн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разясняване на условията за кандидатстване по новите процедури по ОПАК с участието на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повече от 900 потенциални бенефициен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7 бр. обучения на бенефициент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правилно управление на проекти с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над 400 бр. обучени експерти;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2 бр. допълнителни обучения съвместно с Школата по публични финанси към МФ за ЗОП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Голямо годишно информационно събитие с повече от 120 участници,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сред които представители на Европейската комисия и над 30 мед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Пресконференция на 24.02.201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Над 1000 бр. публикувани/излъчени материа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nfo1"/>
          <p:cNvPicPr/>
          <p:nvPr/>
        </p:nvPicPr>
        <p:blipFill>
          <a:blip r:embed="rId3"/>
          <a:srcRect l="0" t="0" r="17599" b="28348"/>
          <a:stretch/>
        </p:blipFill>
        <p:spPr>
          <a:xfrm>
            <a:off x="0" y="4941720"/>
            <a:ext cx="2114640" cy="139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nfo2"/>
          <p:cNvPicPr/>
          <p:nvPr/>
        </p:nvPicPr>
        <p:blipFill>
          <a:blip r:embed="rId4"/>
          <a:srcRect l="0" t="37188" r="0" b="2238"/>
          <a:stretch/>
        </p:blipFill>
        <p:spPr>
          <a:xfrm>
            <a:off x="5292720" y="3687840"/>
            <a:ext cx="3887640" cy="1757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nfo3"/>
          <p:cNvPicPr/>
          <p:nvPr/>
        </p:nvPicPr>
        <p:blipFill>
          <a:blip r:embed="rId5"/>
          <a:srcRect l="0" t="45361" r="0" b="0"/>
          <a:stretch/>
        </p:blipFill>
        <p:spPr>
          <a:xfrm>
            <a:off x="4213080" y="5030640"/>
            <a:ext cx="3311640" cy="135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8355-2B1D-4729-AA06-5BE8311893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Picture 6" descr="bridg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920" y="101448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907920"/>
            <a:ext cx="9144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БЛАГОДАРЯ ЗА ВНИМАНИЕТО!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 контакти: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Управляващ орган на ОПАК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Министерство на финансите 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Дирекция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офия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ул.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Г. С. Раковски”, №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е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01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акс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nfo@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minfin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C2CC-78AA-437E-9AB0-D7AC99D208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Picture 15" descr="sucess2"/>
          <p:cNvPicPr/>
          <p:nvPr/>
        </p:nvPicPr>
        <p:blipFill>
          <a:blip r:embed="rId2"/>
          <a:stretch/>
        </p:blipFill>
        <p:spPr>
          <a:xfrm>
            <a:off x="3132000" y="1843200"/>
            <a:ext cx="6012000" cy="4484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125360"/>
            <a:ext cx="6192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ГОДИШЕН ДОКЛАД ЗА НАПРЕДЪКА ПО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20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Г.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EEDC-FAE0-4513-B3DC-8023DD7C27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116000" y="26028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пълнение на ОПАК по приоритетни оси към края на 2012 г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293840"/>
          <a:ext cx="8642160" cy="4727520"/>
        </p:xfrm>
        <a:graphic>
          <a:graphicData uri="http://schemas.openxmlformats.org/drawingml/2006/table">
            <a:tbl>
              <a:tblPr/>
              <a:tblGrid>
                <a:gridCol w="2100240"/>
                <a:gridCol w="1517400"/>
                <a:gridCol w="1725840"/>
                <a:gridCol w="898560"/>
                <a:gridCol w="1500120"/>
                <a:gridCol w="900000"/>
              </a:tblGrid>
              <a:tr h="709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 план/лв.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ор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плат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- 201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862 253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756 491,91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9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820 698,7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973 015,8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841 933,38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547 136,2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 613 743,2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 673 297,75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946 705,6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V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143 707,8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60 540,3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35 342,5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О: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 592 720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 732 263,4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6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 749 883,22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F3CF-7202-4DE5-9800-D606412731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Picture 25" descr="clock-euro1"/>
          <p:cNvPicPr/>
          <p:nvPr/>
        </p:nvPicPr>
        <p:blipFill>
          <a:blip r:embed="rId2"/>
          <a:stretch/>
        </p:blipFill>
        <p:spPr>
          <a:xfrm>
            <a:off x="5003640" y="3500280"/>
            <a:ext cx="4105440" cy="2856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2643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ГРП 2012 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1052640"/>
            <a:ext cx="6804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ИГРП 2012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е с най-много на брой процедури (17) в сравнение с всички предишни индикативни работни програми и отстъпва като общ бюджет (96.150 млн. лв.) единствено на ИГРП 2008 (116 млн. лв.)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От 17 обявени процедури от ИГРП 2012,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 са с решения на оценителните комисии и договорирани в рамките на 2012 г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, а две са със срок за кандидатстване през 2013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Повече получени и оценени проектни предложения през 2012 г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- в ИГРП 2011, 11 от 15 процедури бяха на директно предоставяне, докато през 2012 г. процедурите на директно предоставяне са само 9 от общо 17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0D62-4A8E-4ECC-86B8-0CD3938EC4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Picture 16" descr="blocks"/>
          <p:cNvPicPr/>
          <p:nvPr/>
        </p:nvPicPr>
        <p:blipFill>
          <a:blip r:embed="rId2"/>
          <a:stretch/>
        </p:blipFill>
        <p:spPr>
          <a:xfrm>
            <a:off x="0" y="2349360"/>
            <a:ext cx="3162240" cy="3984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2411280" y="1054080"/>
            <a:ext cx="673272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начително се увеличава и броят на проектите в изпълнение: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в края на 2011 г. проектите в изпълнение са били 90, а в края на 2012 г. те са двойно повече – 17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броя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маляват изпълнените неприключили проекти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т 113 броя в края на 2011 г. до 37 броя в края на 2012 г., като голяма част от тях са с регистрирани нередности или се изчаква становище на компетентни органи извън УО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овишаване на верификацията на разходите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през 2012 г. са верифицирани  388 броя междинни и окончателни искания за плащане (2 пъти повече от верифицираните през 2011 г.), а верифицираните разходи са близо 12 пъти над верифицираните разходи за 2011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Ръст на сертифицираните разход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29 млн. лв., което е близо 3 пъти над сертифицираните разходи за 2011 г.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89000"/>
            <a:ext cx="64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зпълнение на ОПАК 2012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708360" cy="284148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09A5-16C6-4849-A006-5DEFB99F5C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92360" y="981000"/>
            <a:ext cx="565164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ункционални анализи и реформи в НОИ и НЗОК, в следствие на които от 2012 г. служителите в двете ведомства станаха държавни служител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твърждаване на практиката за провеждане на обществени консултации по проекти на нормативни актове чрез промяна в Устройствения правилник на Министерския съвет и неговата администрация и все по-широката популярност на портал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trateg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bg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разработен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отношение на съдебната система, още седем съдилища (две от тях, създадени през 2012 г.) преминават към системата за случайно разпределяне на делата 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w choice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”, разработена по проект на Висшия съдебен съвет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47640" y="189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тати по ПО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A9B2-43BC-4DF5-85AE-10D965B8B2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3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й-успешни, най-мащабни и най-иновативни са проектите на Администрацията на Министерския съвет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студентски стажове в държавната администрац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мобилността на държавните служител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ез 2012 г. има реално обучени служители от администрацията, за разлика от 2010 и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оцентът обучени служители от местната администрация нараства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проекта на Върховния апелативен съд са обучени над 87% от магистратите и съдебните служители обучени по ОПАК през 2012 г.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key"/>
          <p:cNvPicPr/>
          <p:nvPr/>
        </p:nvPicPr>
        <p:blipFill>
          <a:blip r:embed="rId2"/>
          <a:stretch/>
        </p:blipFill>
        <p:spPr>
          <a:xfrm>
            <a:off x="0" y="1557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virtual-intern"/>
          <p:cNvPicPr/>
          <p:nvPr/>
        </p:nvPicPr>
        <p:blipFill>
          <a:blip r:embed="rId3"/>
          <a:stretch/>
        </p:blipFill>
        <p:spPr>
          <a:xfrm>
            <a:off x="0" y="4667400"/>
            <a:ext cx="2627280" cy="1641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5563-8802-4C58-8112-E283E21F00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43196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3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реизпълнението на индикаторите за електронни услуги продължава да се увелича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удължаване на срока за изпълнение на проектите на МТИТС поради тяхната мащабност, комплексност и специализирана тематика, като се очаква те да приключат през 2013 год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лабо е изпълнението на индикаторите за съдебната власт.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Базисна функционалност на портала за е-правосъдие ще може да бъде отчетена най-рано в доклада за 2013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При проектите на Министерство на правосъдието се отчита значително закъснение на етап подготовка и провеждане на обществени поръчки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916360" cy="193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24560" y="3699000"/>
            <a:ext cx="2684520" cy="2278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watch"/>
          <p:cNvPicPr/>
          <p:nvPr/>
        </p:nvPicPr>
        <p:blipFill>
          <a:blip r:embed="rId2"/>
          <a:stretch/>
        </p:blipFill>
        <p:spPr>
          <a:xfrm>
            <a:off x="2987640" y="4289400"/>
            <a:ext cx="2952720" cy="2025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дентифицирани затруднени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 реализацията на ОП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къснения при изпълнението на проек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рудности при прилагането на Методиката за определяне, изплащане и възстановяване на разходите за възнаграждения на служителите в администрацията, приета с ПМС № 330 от 05.12.2011 г.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лагане на финансови кор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Липса на достатъчно искан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за възстановяване на средства от страна на бенефициентите. Причина за липсата на искания за средства е констатираното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бавяне в процеса на договаряне през 2010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Слабости в представяните от бенефициентите искания за възстановяване на средст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които водят до продължителна кореспонденция с бенефициентите за предоставяне на допълнителни документи или до налагане на финансови корекции.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7:33:42Z</dcterms:created>
  <dc:creator>georgi</dc:creator>
  <dc:description/>
  <dc:language>en-US</dc:language>
  <cp:lastModifiedBy>MHristova</cp:lastModifiedBy>
  <dcterms:modified xsi:type="dcterms:W3CDTF">2013-05-09T10:05:22Z</dcterms:modified>
  <cp:revision>628</cp:revision>
  <dc:subject/>
  <dc:title>Slide 1</dc:title>
</cp:coreProperties>
</file>